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CB7-A8F8-4761-8E42-89357928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8034-3919-4806-BAEA-06202DBC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ECBD-786C-4B33-A5E9-18259DCD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A0F0-6DE0-4412-AACA-ABC2C11D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83A-A23E-4C4C-914D-8015C6DB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0D4-662B-4A7F-B6FA-5493D863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790-0931-4C4E-A4ED-72DF1D6F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79B7-4E0C-41A6-9606-D13C6979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4B6C-CDE1-4963-9FBB-7C053FB6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EEE-B6F7-47DA-B370-E7493232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764-E983-4D69-B589-ABD21868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5CD-9A9D-43E9-9DE1-1616B1A4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33F7-F491-4D2A-AF70-B89F2A6BC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w.w3.org/topic/DanCorwin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exikos.com/agency.jsp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w.w3.org/topic/HCLS/ClinicalObservationsInteroperability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Architectu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Enabling Standard Patient-Model Searches in Disparate EMR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n Cor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Agency Prototype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b UI &amp; QA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in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------------ </a:t>
            </a: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(interne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------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ext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------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private HTTP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-----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AG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3160" y="5370480"/>
            <a:ext cx="268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03848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LS resources are available; be nice to automate download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 Ag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I needs web forms built for each COI u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kos can supply th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ther 3 ser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now in active beta t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issues suggest that any new UI be deployed near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ng at same ISP is $29/mo - allows a POC scal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source UI could be run under any domain 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) need to be run at some healthcare provid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mbined Demo Proces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r suggests (+) and (-) pred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Gserver maps (+) into Patient-I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the results-list, the UI the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s pairs: Patient IDs and (-) pred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Rwrapper picks the “final” candida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We Get EM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 are easily located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missing need: usefu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t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ients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to be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R system AP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can offer data to EMRwrapp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Prot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reference web app addressing Rachel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Case Scena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ur HCLS Tas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uggests can deploy soon and at modest costs IF key needs can be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vise a web service architecture (first cut is below), then seek a set of collaborators willing and able to supply its required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ly by existence.  Will you or your organization contribute ideas, energy, time, information or money to make this prototype a useable re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Design Goal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a proto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by using UMLS terms &amp;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 via standard DCM patient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data may span EM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narrative &amp; structured EM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 general interoperability metho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Design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via a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nerate-and-Test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candidates first via high recall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precision by adding Boolea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dds constraints only if the ROI justifi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er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; query only to set the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efforts get invested into future time s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queries helpful to others building new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: must index EMR data-change summa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web-based UI, accessible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Usage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group search agents easy to se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user training via web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oying helps on clinical trials at o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work to add other 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learns EMR mappings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-Visibl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b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5715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in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------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interne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-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xt 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26708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bulk public medical ontologies and lexicons of quasi-standard terms - almost always cite bridge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corpora of protocols, patient summaries, extension lexicons, mapping forms, and match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find all these resourc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teractively learn the latter sorts during normal ope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Suppor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6095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private HTT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AG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88620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ptional) uses parsing and pattern matching to map medical text into named graph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cep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G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hes a named graph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rce to index its URI, and/or list all URIs sharing generalizations of its sub-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iggered a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G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elp validate (and process) all listed patients that match basic goals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a DCM to EM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040" y="129492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Rwrapper-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p-#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- - - - Intranet- - - -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QL-#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R-system-#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989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0384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filter candidates by ASK-ing its loc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R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est each patient for specified Boolean conditions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raints in a standard DCM (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tailed clinical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 must each be mapped to the local EMR data base mode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apping is defined by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m - for SPARQL and/or conditionals in some scripting language such as Li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Rwrapp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type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core artifact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predicates – useful to ANY c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eem a best (simplest) initial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ly, they can exploit SW tool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 and integrate them by using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milarity to LSW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incid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9:57:34Z</dcterms:created>
  <dc:creator>Dan</dc:creator>
  <dc:description/>
  <dc:language>en-US</dc:language>
  <cp:lastModifiedBy>Dan</cp:lastModifiedBy>
  <dcterms:modified xsi:type="dcterms:W3CDTF">2007-11-07T19:40:29Z</dcterms:modified>
  <cp:revision>31</cp:revision>
  <dc:subject/>
  <dc:title>COI Architecture? </dc:title>
</cp:coreProperties>
</file>